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C4C3-23DB-4356-8A1D-461AC502CD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7ED6-E2FC-4755-8783-C5501EF431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 talks less and says m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etry:  type of rhythmic, compressed language that uses figures of speech and imagery to appeal to the reader’s emotions and imagin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aker: voice of the po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za: group of lines of verse, usually regular in pattern, forming a division of a poem or s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6411-2EA1-436F-B71C-A11BD5EE6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6BD9A-74DE-4F1E-9EED-0715A8949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eful / picky   skinny/slim   lie/ fib   blemish/zit   drink/chu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89C4-5263-407A-B3B4-9FAB1E823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837B-2F76-41D1-B34D-AAE9640566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89B7-7CE7-49EB-8864-009C7C003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F02-0F76-401C-8E04-0BEAD1E1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A56A-294D-472A-A077-ADB52B129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22D7-132B-47DA-8857-11660B1DE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67CEA-CDD8-4057-AB34-A2CAFBC4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8CA2-7B64-495E-9186-921F886C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9B2A-01F1-416B-93A3-5AA319DC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5815-D994-4E28-B01B-7B3E7E0D2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1363-CF5C-4715-89FA-57F471D1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2258-C13B-4D69-AF77-89CD1CB5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BACF-026A-4829-9C9F-26608DE3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4006-93AB-4598-8925-C3ADF416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0AD6-077B-49EE-871F-C39857F4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22C6E-92CD-4DFD-AC44-C66B5137D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45DD-1CD7-4591-A336-8002ADEA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ED81-0EFA-473B-BB5B-1849EFF3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210C-5A94-4C97-AD7C-15928C9F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15F7C-AAE8-4C3B-88A7-D46939F29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63F65-BD23-4B44-A644-E3F84409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E55012-BE70-4B99-A683-A0B26E3F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1A805-6AEE-4B0D-A76E-24FA96FC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1C1BC-EF99-4FE5-852C-D8AA1C5B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9ED4-3280-4393-95D6-FCF54178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8680-9D27-412F-A66C-A9CC6673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7E0343-33C2-4DB1-94BD-8626D0D8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E901F-17F2-4852-90DB-DB029B64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434CB7-3B08-4181-A079-90E02929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BCFE4-E30B-4579-95CC-F52A6D18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4B51-FE60-408B-8D22-BB846B586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9AF1F-862F-4A88-AE70-77451F698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A87DC-B57E-4F26-8EE2-F8C48564E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E5346-8DA8-42BA-9417-AFEF617D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0163B-1436-4DEB-BFB9-8E6E001C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FEE3-59FA-431F-AC51-456921129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D1C19-CF18-4151-8C08-787BCD7A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22E06-2C6C-4D84-9BC8-8C1E0B55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B47A33-A306-4632-AD6C-34575ED3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7492D-46E3-4674-A3E8-E3A65245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81E37-E2B2-4BC6-AF97-F6EDB03F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94D9D-B04D-4EB0-B825-E6058225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1DCF8-30F1-4188-86D8-948B08D8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B753-5B24-4261-B737-295C0686E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8A767-1A97-4C24-80C2-3D44DC601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268-D737-4556-BED8-E7F8EB48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8A90-4CCF-4EC6-BB34-1DFD7A89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F6B0-9BC1-4E4C-BC2A-71CCB0A0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D9B4-12A4-4E0E-89B0-D05669C06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66D3-B3F2-4373-A3D1-5E4296E0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FAD2-43D5-4C88-B8DE-CA444CD624E2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E14C-E376-46C6-930C-36FF8C3D8107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B127-CBC6-46B0-A4D8-9EBA7D5FE0C1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1F8F-3536-4995-87FA-D4328631A35B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D8AB-BB67-408F-9349-41DC50995B13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6D94-31DC-4298-ADFB-8397F9B7692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1E24-27B0-4100-BCC4-9C2B069E8DF0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E6751-C5FB-4305-9BD9-9327DDAD4DE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imile and Metaph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Simi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~ a comparison using words such as like, than, or 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feel like a limp dishra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baby was like an octopus, grabbing everything in sigh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Metaphor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~ a direct comparis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 am a limp dishra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ose girls are two peas i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po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4B25-938A-44D9-87B9-19B1D139A81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plied Metapho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s the things being compared instead of naming th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reader must figure out the comparis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 Captain! My Captain! Our fearful trip is done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hip has weather’d every rack, the prize we sough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s wo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~ Walt Whitm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70AA-0768-4F29-A53A-1601AFE582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xtended Metapho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088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a comparison that continues throughout an entire work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Firework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You hate me and I hate you,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nd we are so polite, we two!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t whenever I see you, I burst apart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And scatter the sky with my blazing heart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It spits and sparkles in stars and balls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Buds into roses – and flares and falls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carlet buttons, and pale green disks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ilver spirals and asterisks,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Shoot and tremble in a mist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Peppered with mauve and amethyst.            ~ Amy Lowell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3863-BE58-43BD-BE76-43C5AD600AC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und De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Alliteration: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etition of initial consonant sounds in words that are close togeth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f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p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ed a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ck of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l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ppers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How many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le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ppers did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t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per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ck?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ng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ght shakes across th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Constanti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ke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onstantia"/>
              </a:rPr>
              <a:t>Assonance:  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repetition of vowel sounds in words that are close togeth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a quiet sl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 and a sw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e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 dr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ea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m when the long trick’s 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so all the n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ght-t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,</a:t>
            </a:r>
            <a:r>
              <a:rPr b="0" lang="en-US" sz="1800" spc="-1" strike="noStrike">
                <a:solidFill>
                  <a:srgbClr val="5e0af6"/>
                </a:solidFill>
                <a:latin typeface="Constantia"/>
              </a:rPr>
              <a:t> 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5e0af6"/>
                </a:solidFill>
                <a:latin typeface="Constanti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e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own b</a:t>
            </a:r>
            <a:r>
              <a:rPr b="0" i="1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the s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f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arling,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darling,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l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fe and m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br</a:t>
            </a:r>
            <a:r>
              <a:rPr b="0" lang="en-US" sz="1800" spc="-1" strike="noStrike" u="sng">
                <a:solidFill>
                  <a:srgbClr val="5e0af6"/>
                </a:solidFill>
                <a:uFillTx/>
                <a:latin typeface="Constantia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2FA13-8480-4927-8FF1-748CED4872D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ound Devic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Onomatopoeia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e of a word whose sound imitates or suggests its mean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Drum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your drums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batter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your banjo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Sob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on the long cool winding saxophone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FA37-081E-4883-9EA8-BA760D046AA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petition of accented vowel sounds and all sounds following them in words that are close toge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Heart / Part / sta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laster / fast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Know / though / snow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5E54-98A0-48EB-BAF0-8698EE1B1F0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rhy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Exact rhyme: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nds ending words are identi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wer / sour             June / mo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Approximate rhyme: 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ounds ending words are nearly the sam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gin / him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lade / bloo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lso known as slant, half, or imperfect rhyme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E8D8-DBCF-49E0-B275-F5B7DE9833DC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Rhym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End Rhym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curs at the ends of 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Hold fast to dream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or if dreams </a:t>
            </a:r>
            <a:r>
              <a:rPr b="1" lang="en-US" sz="1700" spc="-1" strike="noStrike">
                <a:solidFill>
                  <a:srgbClr val="00b050"/>
                </a:solidFill>
                <a:latin typeface="Constantia"/>
              </a:rPr>
              <a:t>die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Life is a broken-winged bird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at cannot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fly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Internal Rhym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ccurs within a lin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he splendor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falls 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from castle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walls</a:t>
            </a:r>
            <a:r>
              <a:rPr b="1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Couplet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pair of successive rhyming lin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So call the field to rest, and let’s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away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To part the glories of this happy </a:t>
            </a:r>
            <a:r>
              <a:rPr b="1" lang="en-US" sz="1900" spc="-1" strike="noStrike">
                <a:solidFill>
                  <a:srgbClr val="00b050"/>
                </a:solidFill>
                <a:latin typeface="Constantia"/>
              </a:rPr>
              <a:t>day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76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1ADD-3F69-48CB-B2D9-A3F95164A01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 Sche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ttern of rhymed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dicate by giving each new end rhyme a new letter of the alphabe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kip a space for stanza brea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C88B-C375-4B27-8633-4FFB5D65496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 Sche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Once by the Pacific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Robert Fros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shattered water made a misty din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Great waves looked over others coming in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And thought of doing something to the shore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at water never did to land before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clouds were low and hairy in the skies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Like locks blown forward in the gleam of eyes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You could not tell, and yet it looked as if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shore was lucky in being backed by cliff,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 cliff in being backed by continent;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It looked as if a night of dark intent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Was coming, and not only a night, an age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Someone had better be prepared for rage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There would be more than ocean-water broken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nstantia"/>
              </a:rPr>
              <a:t>Before God’s last Put out the Light was spoken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Freeform 6"/>
          <p:cNvSpPr/>
          <p:nvPr/>
        </p:nvSpPr>
        <p:spPr>
          <a:xfrm>
            <a:off x="9126360" y="4149720"/>
            <a:ext cx="360" cy="93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"/>
          <p:cNvSpPr/>
          <p:nvPr/>
        </p:nvSpPr>
        <p:spPr>
          <a:xfrm>
            <a:off x="8569440" y="4413240"/>
            <a:ext cx="136440" cy="8244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9"/>
          <p:cNvSpPr/>
          <p:nvPr/>
        </p:nvSpPr>
        <p:spPr>
          <a:xfrm>
            <a:off x="8031240" y="3657600"/>
            <a:ext cx="7920" cy="79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lide Number Placeholder 8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4E77-1591-473C-BAA7-C4E81BD8A14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3"/>
          <p:cNvSpPr/>
          <p:nvPr/>
        </p:nvSpPr>
        <p:spPr>
          <a:xfrm>
            <a:off x="1143000" y="838080"/>
            <a:ext cx="6705720" cy="63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en-US" sz="3200" spc="-1" strike="noStrike">
                <a:solidFill>
                  <a:srgbClr val="0b5395"/>
                </a:solidFill>
                <a:latin typeface="Constantia"/>
              </a:rPr>
              <a:t>Poetry talks less and says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Poetry: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type of rhythmic, compressed language that uses figures of speech and imagery to appeal to the reader’s emotions and imagin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Speaker: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voice of the po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Stanza: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roup of lines of verse, usually regular in pattern, forming a division of a poem or s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2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F7FA-99BC-4486-94F3-5DAE563840E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Rhyme Sche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Content Placeholder 2" descr=""/>
          <p:cNvPicPr/>
          <p:nvPr/>
        </p:nvPicPr>
        <p:blipFill>
          <a:blip r:embed="rId1"/>
          <a:stretch/>
        </p:blipFill>
        <p:spPr>
          <a:xfrm>
            <a:off x="378000" y="1871640"/>
            <a:ext cx="8242200" cy="4432320"/>
          </a:xfrm>
          <a:prstGeom prst="rect">
            <a:avLst/>
          </a:prstGeom>
          <a:ln w="0">
            <a:noFill/>
          </a:ln>
        </p:spPr>
      </p:pic>
      <p:sp>
        <p:nvSpPr>
          <p:cNvPr id="264" name="Oval 3"/>
          <p:cNvSpPr/>
          <p:nvPr/>
        </p:nvSpPr>
        <p:spPr>
          <a:xfrm>
            <a:off x="9090000" y="4086360"/>
            <a:ext cx="88920" cy="8892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solidFill>
              <a:srgbClr val="ffff00">
                <a:alpha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4"/>
          <p:cNvSpPr/>
          <p:nvPr/>
        </p:nvSpPr>
        <p:spPr>
          <a:xfrm>
            <a:off x="8642520" y="4113360"/>
            <a:ext cx="360" cy="360"/>
          </a:xfrm>
          <a:prstGeom prst="pie">
            <a:avLst/>
          </a:prstGeom>
          <a:solidFill>
            <a:srgbClr val="ffff00">
              <a:alpha val="50000"/>
            </a:srgbClr>
          </a:solidFill>
          <a:ln w="38160">
            <a:solidFill>
              <a:srgbClr val="ffff00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5"/>
          <p:cNvSpPr/>
          <p:nvPr/>
        </p:nvSpPr>
        <p:spPr>
          <a:xfrm>
            <a:off x="8842320" y="4486320"/>
            <a:ext cx="38160" cy="38160"/>
          </a:xfrm>
          <a:prstGeom prst="ellipse">
            <a:avLst/>
          </a:prstGeom>
          <a:solidFill>
            <a:srgbClr val="ffff00">
              <a:alpha val="50000"/>
            </a:srgbClr>
          </a:solidFill>
          <a:ln w="0">
            <a:solidFill>
              <a:srgbClr val="ffff00">
                <a:alpha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6"/>
          <p:cNvSpPr/>
          <p:nvPr/>
        </p:nvSpPr>
        <p:spPr>
          <a:xfrm>
            <a:off x="8250120" y="4505400"/>
            <a:ext cx="7920" cy="93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7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2B37-A694-4092-95F7-48627FC9ECE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ter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Rhythm: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at; arrangement of stressed and unstressed syllab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Meter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attern of rhyth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iamb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nstressed / stressed syllable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penta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five ti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Iambic Pentameter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ve iambs in one lin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onstantia"/>
              </a:rPr>
              <a:t>Blank Vers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nrhymed iambic pentame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lnSpc>
                <a:spcPct val="90000"/>
              </a:lnSpc>
              <a:spcBef>
                <a:spcPts val="49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0841-7611-40CA-8487-722A556D0F58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Blank Vers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I see birches bend to left and righ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cross the line of straighter  darker trees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like to think some boy’s been swinging the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“Birches” by Robert Fros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t must be by his death; and for my part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 know no personal cause to spurn at him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 for the general.  He would be crown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om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The Tragedy of Julius Caes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1C35A-3DFA-4740-B5E3-DA2E9CF7A04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ree Vers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No fixed line length, stanza form, rhyme scheme or me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The Red Wheelbarrow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so much depends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upo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a red whee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arrow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glazed with rai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water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beside the white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nstantia"/>
              </a:rPr>
              <a:t>chickens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nstantia"/>
              </a:rPr>
              <a:t>William Carlos Williams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D3E7F-5005-4A23-8D1A-291E92918CD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4"/>
          <p:cNvSpPr/>
          <p:nvPr/>
        </p:nvSpPr>
        <p:spPr>
          <a:xfrm>
            <a:off x="7566120" y="3967200"/>
            <a:ext cx="299880" cy="68400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ypes of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Narrative Poe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Dramatic Poe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Constantia"/>
              </a:rPr>
              <a:t>Lyric Poetry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D410-378F-4396-AA3F-394A9A5D86B0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Narrative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1934640"/>
            <a:ext cx="8915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lls a 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pic: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ng poem with heroes and a stately, dignified languag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3" marL="1175400" indent="-207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Iliad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nstantia"/>
              </a:rPr>
              <a:t>Beowulf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Ballad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horter narrative po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riginally meant to be su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6fc6"/>
                </a:solidFill>
                <a:latin typeface="Constantia"/>
              </a:rPr>
              <a:t>Folk / Popular Ballad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assed down orally through generations    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tragic mood, sensational plot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f6fc6"/>
                </a:solidFill>
                <a:latin typeface="Constantia"/>
              </a:rPr>
              <a:t>Literary Ballad: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mposed by a known poe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more elaborate in language and for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-24372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03F72-FC7D-4472-9FAE-A934376B74F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ramatic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s a pla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ne or more characters speak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ett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ramatic situ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Emotional conflict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Vigorous speech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Natural language rhythm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The Tragedy of Julius Caes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Evangel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88AF-178C-4AD4-9D5B-646B0EF8C5F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xpresses emotions or thoughts of the speake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usually brief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from Greek “lyrikos” meaning a poem sung to the music of a lyr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ypical Them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ersonal though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emotions: grief to jo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beauty of nature            reminiscence of pa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Elegy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oem mourning someone who has di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	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Sonnets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14 line poems with a set rhyme sche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Lyric Poet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C5DA-2790-46D6-B416-F024EC0B3A9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talian Sonn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Octav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eight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rhymes arranged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bbaabb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s a situation or a probl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este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= six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wo or three rhymes arranged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dcdcd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cdec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esents an outcome or solution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9A8D-58B9-4592-A42B-4A3C78C37F0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Composed upon Westminister Bridge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Earth has not anything to show more fair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ull would he be of soul who could pass b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 sight so touching in its majesty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city now doth, like a garment, wea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beauty of the morning; silent, bar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Ships, towers, domes, theaters, and temples li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pen unto the fields, and to the sky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ll bright and glittering in the smokeless air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ver did sun more beautifully stee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his first splendor, valley, rock, or hill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Ne’er saw I, never felt, a calm so deep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e river glideth at his own sweet will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ar God! The very houses seem asleep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nd all that mighty heart is lying still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~ William Wordswort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1840" indent="-231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563CF-80BB-408B-B04C-FB3282545B7B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</a:t>
            </a: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 </a:t>
            </a:r>
            <a:br>
              <a:rPr sz="5000"/>
            </a:br>
            <a:br>
              <a:rPr sz="5000"/>
            </a:b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iction: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a writer’s choice of words </a:t>
            </a:r>
            <a:br>
              <a:rPr sz="2800"/>
            </a:br>
            <a:r>
              <a:rPr b="0" lang="en-US" sz="2800" spc="-1" strike="noStrike">
                <a:solidFill>
                  <a:srgbClr val="04617b"/>
                </a:solidFill>
                <a:latin typeface="Calibri"/>
              </a:rPr>
              <a:t>                             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Denotation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~ literal meaning of a word, as listed in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dictiona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Connotati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~ suggested meaning of a wor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~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he meanings and feelings that have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 become associated with a word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5411-7D30-4013-8391-A66F284AB32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glish (Shakesperean) Sonne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Three Quatrain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four lines eac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hymes arranged as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abab cdcd efef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se often express related ideas or examp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  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Couplet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two li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hyme of 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g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ouplet sums the poet’s conclusion or message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5C98-BA51-4B1C-8EA6-B748E45F318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at Time of Year</a:t>
            </a:r>
            <a:br>
              <a:rPr sz="2400"/>
            </a:b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at time of year thou mayst in me behol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en yellow leaves, or none, or few, do hang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Upon those boughs which shake against the cold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are ruined choirs where late the sweet birds sa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me thou see’st the twilight of such da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 after sunset fadeth in the west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Which by and by black night doth take away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eath’s second self, that seals up all in rest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n me thou see’st the glowing of such fir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at on the ashes of his youth doth li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s the deathbed whereon it must expire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Consumed with that which it was nourished by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is thou perceivest, which makes thy love more stro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love that well which thou must leave ere long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lliam Shakespear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EA71-F2AD-498F-9217-C16142DC40A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Various Terms</a:t>
            </a:r>
            <a:r>
              <a:rPr b="0" lang="en-US" sz="5000" spc="-1" strike="noStrike">
                <a:solidFill>
                  <a:srgbClr val="0f6fc6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Allusion:</a:t>
            </a:r>
            <a:r>
              <a:rPr b="0" lang="en-US" sz="26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eference to a past writing or event from histor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Refrain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repeated line of word in a poe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Poetic License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eedom to break conventional rules in order to use language playfully and creativel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C531-50F7-42DC-AA3C-D81B59ED8514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r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nguage that relates to the sens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ight imagery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 flows of clouds across the horiz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ound imagery</a:t>
            </a:r>
            <a:r>
              <a:rPr b="0" lang="en-US" sz="2400" spc="-1" strike="noStrike">
                <a:solidFill>
                  <a:srgbClr val="04617b"/>
                </a:solidFill>
                <a:latin typeface="Constantia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nd whistling thinly through the crac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aste imagery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ch chocolate slowly melted on his tongu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Smell imagery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scent of freshly brewed coffee tickled my nose awak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onstantia"/>
              </a:rPr>
              <a:t>Touch imagery: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Jill’s forehead slammed against the steering wheel as her head snapped forwar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B165B-6BD9-487C-9829-08196364611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ry Po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76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llowing the prompts, write an eight line poem.  Select words with strong connotatio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egin each line with a capital lett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nes should be words and phrases; not sentenc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title will be added when you have completed the eight li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D9CA-D616-42DE-A211-E757F8B264B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magery Poe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atures of a disgusting animal without naming the anim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How you feel when you become very angry and lose your temp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isgusting color: its name and why you hate i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mell of garbage burning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e sights and smells after a horrible floo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eatures of the type of music you dislik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aste and texture of repulsive foo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cenes from a rio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8326-1796-441E-B225-DDC0CC5744D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anin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Literal mean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the meaning that is directly stat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Figurative meaning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– the deeper, symbolic meaning which must be interpreted from a literary work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5F87-5DE8-4A9D-A654-571D618B8E8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Figurative Language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	</a:t>
            </a:r>
            <a:r>
              <a:rPr b="0" lang="en-US" sz="2600" spc="-1" strike="noStrike">
                <a:solidFill>
                  <a:srgbClr val="04617b"/>
                </a:solidFill>
                <a:latin typeface="Calibri"/>
              </a:rPr>
              <a:t>(Figures of Speech)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scribes one thing in terms of anoth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 typ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Symbol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n object that stands for itself and represents another ob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Personification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ving that which is not human, human qu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Simile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comparison of unlike things using words such as like or 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onstantia"/>
              </a:rPr>
              <a:t>Metaphor: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 direct comparison of unlike thing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01A1-00F2-4639-AE82-9D884FFC884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ymbol and Personificatio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Symbo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~ an object that stands for itself and represents another obje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f6fc6"/>
                </a:solidFill>
                <a:latin typeface="Constantia"/>
              </a:rPr>
              <a:t>Exampl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Miles to go before I sleep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And miles to go before I sleep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Personification~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iving that which is not human, human qualit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                 </a:t>
            </a:r>
            <a:r>
              <a:rPr b="1" lang="en-US" sz="24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wind sang her mournful so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eat waves looked over  othe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affodils nodded their yellow hea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E66D9-FCCA-492B-9744-0136103995F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12:49:46Z</dcterms:created>
  <dc:creator>Teacher</dc:creator>
  <dc:description/>
  <dc:language>en-US</dc:language>
  <cp:lastModifiedBy>Teacher</cp:lastModifiedBy>
  <dcterms:modified xsi:type="dcterms:W3CDTF">2009-05-06T18:06:21Z</dcterms:modified>
  <cp:revision>106</cp:revision>
  <dc:subject/>
  <dc:title>Poetry</dc:title>
</cp:coreProperties>
</file>