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4DFD-02E0-4086-9214-92F81135E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DB03-7D93-43AC-BECE-CA2D5A4AF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talks less and says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:  type of rhythmic, compressed language that uses figures of speech and imagery to appeal to the reader’s emotions and imagin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aker: voice of the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za: group of lines of verse, usually regular in pattern, forming a division of a poem or s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0F08-89F9-4921-89A1-DD4ABCBCF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08CB-F095-47C4-B350-1954B4D95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ful / picky   skinny/slim   lie/ fib   blemish/zit   drink/ch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A804-0FE9-4933-98F8-EE13F0189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026A-0339-45CD-9234-CBF688A66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2A1-88CF-46ED-88FE-42C03794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B2B-8A81-4CC9-B30A-5F8B12DD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EEC-7789-47BF-BF7D-6EAF8CAC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8FE-2C58-42F8-97AF-D0BD0339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403D-4011-4D8D-AA7E-40915817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4EBF-5678-440A-9C15-A58A0057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2AB9-0F9B-4920-A8FC-F065D208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7ED8-9140-4CA5-899F-B1EC3A8F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AFB4-F777-4877-9ADD-F15FA32D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A05C-F819-47C1-808C-8CBC63D1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BC1F-592E-464A-B16E-829444C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05C-DFBF-4BB6-BE30-240DE929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6C4E-521F-4AA7-956A-906981E8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167A-16C3-4503-A138-33BA4AE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43FB-AB9B-4EAF-944F-F411F12E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D79F-67CB-4D93-B896-719AA5EF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731E-65B5-435B-A67F-C90722E8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F10D-00AE-4E72-A1EF-CAD41D42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4900-9735-4DA6-9A46-7EABAA64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2B11-1018-4E75-99D5-DCCD6EB9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E68A-AB3F-4B67-822E-6003ACA3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634B-B494-4286-A9B6-E5B7C1C0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367-15C3-457C-A389-88D59C24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2645-8794-4E82-A6AA-A6123870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133A-3B9D-4DBE-8F31-9473D45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3F43-AE91-442B-B142-E6891C28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7FB9-3AF0-469A-9639-D4B535C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D549-9920-461F-8178-FD38CDC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A2C4-3B0E-4350-8A49-CBAE4FF1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F9FC-0DB7-49F9-B385-7F7000E3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78F3-88CD-4AAE-86A2-D41106CD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9540-6783-445A-B5F7-DD4F8066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CA10-F9F6-42E8-BEF2-E5C373C1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9DE-AFC3-484F-8851-7BA6D0D5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536E-A512-4A4B-B1C9-13794892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A517-2665-427F-A62A-FB2B54DF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9D59-25AA-45A3-8A3F-129A5131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A358-3775-4642-A390-5C683966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BAAD-2A59-4B91-B9B7-AB213D81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F3882-6AD8-4DF8-8B39-6A1FDB9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6E98-73C3-43E0-9A2A-824DD1A3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696CF-7EC4-4CDF-86EC-70ECAE36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FFDD-18F0-4ED7-9A62-381236C0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812-DF5F-4394-91E2-7CD69AF0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856-5D18-4E01-9693-BEF0CA4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D28-2137-40B0-99BD-9143EF4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1F2-5019-45A0-98CC-B25590B6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752-83B3-48C4-83C8-95E77E0B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4B9D-A5E1-4909-95BE-C3F189A6CDA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7A4C-20D2-4C18-9BFD-243747BEB4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9AB8-A07E-49BB-81CF-DEAE4FCC0D2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B05-FB45-47B6-A169-771CB0DE157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547-78DC-46D5-AF53-20E97262463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81FB-38E4-43E9-9CE0-5D038891828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F27B-4EBC-4C90-BF50-E51C4FCA2979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D3BA-111C-481E-BEED-07C06E52F0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ile and Metaph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~ a comparison using words such as like, than, or 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feel like a limp dishra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aby was like an octopus, grabbing everything in s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Metapho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a direct compari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am a limp dishra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se girls are two peas 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FE69-23D3-4C56-B45D-8BD3571ECB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lied Metaph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s the things being compared instead of nam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ader must figure out the comparis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 Captain! My Captain! Our fearful trip is don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hip has weather’d every rack, the prize we sough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w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Walt Whitm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AF5C-048B-48EB-958B-CD7B5DE9013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tended Metaph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omparison that continues throughout an entire wor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irework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You hate me and I hate you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d we are so polite, we two!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t whenever I see you, I burst apar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d scatter the sky with my blazing hear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t spits and sparkles in stars and ball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ds into roses – and flares and fall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carlet buttons, and pale green disk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ilver spirals and asterisk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hoot and tremble in a mis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Peppered with mauve and amethyst.            ~ Amy Lowell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C5DB-7F84-4AF8-8887-FF0E6841EC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und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Alliteration: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etition of initial consonant sounds in words that are close toget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p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ed 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k of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l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pper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w many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l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ppers di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p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g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ght shakes across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k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Assonance: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etition of vowel sounds in words that are close toget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a quiet s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 and a sw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 dr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 when the long trick’s 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so all the n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ht-t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,</a:t>
            </a:r>
            <a:r>
              <a:rPr b="0" lang="en-US" sz="1800" spc="-1" strike="noStrike">
                <a:solidFill>
                  <a:srgbClr val="5e0af6"/>
                </a:solidFill>
                <a:latin typeface="Constantia"/>
              </a:rPr>
              <a:t> 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5e0af6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own b</a:t>
            </a:r>
            <a:r>
              <a:rPr b="0" i="1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s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f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rling,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rling,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e and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br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B5A4-DCA9-48B4-93DA-2C89E6189F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und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Onomatopoeia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of a word whose sound imitates or suggests its mea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ru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your drum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att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your banjo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Sob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the long cool winding saxopho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762B-48FE-4BD7-B001-49124E958E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etition of accented vowel sounds and all sounds following them in words that are close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rt / Part / st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ter / fas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now / though / sn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D0E1-B3EF-418B-A165-3762616D1F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Exact rhyme: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nds ending words are iden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wer / sour             June / mo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pproximate rhyme: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nds ending words are nearly the s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in / h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de /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so known as slant, half, or imperfect rhym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0E73-4305-40C4-8357-10A7F63D82B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Rhym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End Rhym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at the ends of 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old fast to dream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if dreams </a:t>
            </a:r>
            <a:r>
              <a:rPr b="1" lang="en-US" sz="1700" spc="-1" strike="noStrike">
                <a:solidFill>
                  <a:srgbClr val="00b050"/>
                </a:solidFill>
                <a:latin typeface="Constantia"/>
              </a:rPr>
              <a:t>die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ife is a broken-winged bird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at cannot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fl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Internal Rhym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within a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splendor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falls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rom castle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wall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Couplet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air of successive rhyming 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o call the field to rest, and let’s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awa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part the glories of this happy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day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FFD6-7D45-446C-BB7E-C4A5698A96A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tern of rhymed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cate by giving each new end rhyme a new letter of the alphab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kip a space for stanza brea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EB5-78F2-4B2A-9532-4C971828B9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Once by the Pacific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Robert Fros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shattered water made a misty din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Great waves looked over others coming in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And thought of doing something to the shor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at water never did to land befor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clouds were low and hairy in the skies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Like locks blown forward in the gleam of eyes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You could not tell, and yet it looked as if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shore was lucky in being backed by cliff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cliff in being backed by continent;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It looked as if a night of dark inten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Was coming, and not only a night, an ag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Someone had better be prepared for rag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re would be more than ocean-water broke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Before God’s last Put out the Light was spoken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9126360" y="4149720"/>
            <a:ext cx="360" cy="93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8569440" y="4413240"/>
            <a:ext cx="136440" cy="8244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9"/>
          <p:cNvSpPr/>
          <p:nvPr/>
        </p:nvSpPr>
        <p:spPr>
          <a:xfrm>
            <a:off x="8031240" y="3657600"/>
            <a:ext cx="7920" cy="7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290-DC49-46EC-8BEF-4710B92282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143000" y="838080"/>
            <a:ext cx="6705720" cy="63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Poetry talks less and says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Poetry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ype of rhythmic, compressed language that uses figures of speech and imagery to appeal to the reader’s emotions and imag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Speaker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ice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Stanza: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oup of lines of verse, usually regular in pattern, forming a division of a poem or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8EE4-5B94-4549-8506-D80395F1C53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Content Placeholder 2" descr=""/>
          <p:cNvPicPr/>
          <p:nvPr/>
        </p:nvPicPr>
        <p:blipFill>
          <a:blip r:embed="rId1"/>
          <a:stretch/>
        </p:blipFill>
        <p:spPr>
          <a:xfrm>
            <a:off x="378000" y="1871640"/>
            <a:ext cx="8242200" cy="4432320"/>
          </a:xfrm>
          <a:prstGeom prst="rect">
            <a:avLst/>
          </a:prstGeom>
          <a:ln w="0">
            <a:noFill/>
          </a:ln>
        </p:spPr>
      </p:pic>
      <p:sp>
        <p:nvSpPr>
          <p:cNvPr id="264" name="Oval 3"/>
          <p:cNvSpPr/>
          <p:nvPr/>
        </p:nvSpPr>
        <p:spPr>
          <a:xfrm>
            <a:off x="9090000" y="4086360"/>
            <a:ext cx="88920" cy="889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solidFill>
              <a:srgbClr val="ffff00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"/>
          <p:cNvSpPr/>
          <p:nvPr/>
        </p:nvSpPr>
        <p:spPr>
          <a:xfrm>
            <a:off x="8642520" y="4113360"/>
            <a:ext cx="360" cy="360"/>
          </a:xfrm>
          <a:prstGeom prst="pie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8842320" y="4486320"/>
            <a:ext cx="38160" cy="381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solidFill>
              <a:srgbClr val="ffff00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8250120" y="4505400"/>
            <a:ext cx="7920" cy="93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4E3A-82C3-4DA3-94C4-49A75946AC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e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Rhythm: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at; arrangement of stressed and unstressed syll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Mete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tern of 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iamb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tressed / stressed syllab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pent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ve ti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ambic Pentamete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iambs in one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Blank Vers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rhymed iambic pent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906E-C2D2-465C-802E-BA4F25E972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ank Ver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I see birches bend to left and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ross the line of straighter  darker tree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like to think some boy’s been swinging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“Birches” by Robert Fr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must be by his death; and for my pa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know no personal cause to spurn at him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 for the general.  He would be crown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Tragedy of Julius Cae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7794-6E8B-42F0-AC76-4388E6ADE4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ee Vers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fixed line length, stanza form, rhyme scheme or 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Red Wheelbar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 much depend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up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red whee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r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lazed with rai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eside the whi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hicken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illiam Carlos William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068-F846-4CFD-85D1-634DB77B0A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"/>
          <p:cNvSpPr/>
          <p:nvPr/>
        </p:nvSpPr>
        <p:spPr>
          <a:xfrm>
            <a:off x="7566120" y="3967200"/>
            <a:ext cx="299880" cy="68400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Narrative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Dramatic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Lyric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3DC4-81EE-484B-B47A-53F21A83CE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rrative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s a 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pic: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 poem with heroes and a stately, dignified langu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75400" indent="-207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Ili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eowul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Ballad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rter narrative p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iginally meant to be s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6fc6"/>
                </a:solidFill>
                <a:latin typeface="Constantia"/>
              </a:rPr>
              <a:t>Folk / Popular Ballad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ssed down orally through generations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tragic mood, sensational plo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6fc6"/>
                </a:solidFill>
                <a:latin typeface="Constantia"/>
              </a:rPr>
              <a:t>Literary Ballad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mposed by a known poe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re elaborate in language and for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ACD-5CA4-4298-AB30-5A5563EAA6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ramatic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 pl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e or more characters spea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tt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ramatic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motional conflic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igorous spee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tural language rhyth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The Tragedy of Julius Caes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Evangel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A28-D954-440F-AAF4-E967F1EEFB6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es emotions or thoughts of the spea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ually brief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rom Greek “lyrikos” meaning a poem sung to the music of a ly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ypical The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though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emotions: grief to jo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auty of nature            reminiscence of p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Eleg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em mourning someone who has di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onnets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 line poems with a set rhyme sche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yric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EC41-89F2-4634-AD8C-D8965E3B42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talian Son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cta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eight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baabb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 situation or a probl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st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six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or three 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dcdc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dec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n outcome or solu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7BC3-003E-4740-BDEC-271A2F92F6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Composed upon Westminister Bridge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rth has not anything to show more fai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ull would he be of soul who could pass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ight so touching in its majest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city now doth, like a garment, we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eauty of the morning; silent, ba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ips, towers, domes, theaters, and temples li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pen unto the fields, and to the sk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 bright and glittering in the smokeless ai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ver did sun more beautifully stee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his first splendor, valley, rock, or hill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’er saw I, never felt, a calm so dee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river glideth at his own sweet will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r God! The very houses seem asleep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all that mighty heart is lying still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~ William Wordswort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2104-51BB-416C-9807-D6CB23FABA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ction: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a writer’s choice of words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                        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Denota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literal meaning of a word, as listed in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diction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~ suggested meaning of a 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~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meanings and feelings that hav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become associated with a word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D98B-FC45-417F-BB19-D4C70AFC86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glish (Shakesperean) Son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ree Quatrai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four lines 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ab cdcd efe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often express related ideas or examp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uple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two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m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uplet sums the poet’s conclusion or messag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7AB2-1AF4-4DB0-8BAE-9A6E50436C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at Time of Year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at time of year thou mayst in me behol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en yellow leaves, or none, or few, do ha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pon those boughs which shake against the cold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are ruined choirs where late the sweet birds s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me thou see’st the twilight of such d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after sunset fadeth in the west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ch by and by black night doth take away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th’s second self, that seals up all in rest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me thou see’st the glowing of such fi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at on the ashes of his youth doth li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the deathbed whereon it must expi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sumed with that which it was nourished b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thou perceivest, which makes thy love more stro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love that well which thou must leave ere lo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lliam Shakespe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DD3C-F6F8-49DD-84F1-4EC68CC952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Various Terms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Allusion:</a:t>
            </a: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eference to a past writing or event from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Refrai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epeated line of word in a po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Poetic Licens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edom to break conventional rules in order to use language playfully and creative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0ED5-8EF5-4215-81BF-BB7004BF58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 that relates to the sen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ight imager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flows of clouds across the horiz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ound imagery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d whistling thinly through the cr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aste imagery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h chocolate slowly melted on his tong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mell imager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cent of freshly brewed coffee tickled my nose awak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ouch imagery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ill’s forehead slammed against the steering wheel as her head snapped forwa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B520-AF93-4237-890C-73C027E7F5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 Po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llowing the prompts, write an eight line poem.  Select words with strong connot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in each line with a capital let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s should be words and phrases; not sent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itle will be added when you have completed the eight l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1A51-FA80-47AB-BD1A-0720613E31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 Po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atures of a disgusting animal without naming the anim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 you feel when you become very angry and lose your tem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gusting color: its name and why you hate 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mell of garbage bur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ights and smells after a horrible flo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atures of the type of music you dislik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aste and texture of repulsive fo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cenes from a ri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253-952D-4579-82E1-E6ACF9D05E5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anin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Literal mean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the meaning that is directly st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Figurative mean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the deeper, symbolic meaning which must be interpreted from a literary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B5E8-5C8A-4DB5-87AB-112A520DE2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gurative Languag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(Figures of Speech)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s one thing in terms of ano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ymbol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object that stands for itself and represents another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Personification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ing that which is not human, human qu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imil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mparison of unlike things using words such as like or 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Metaphor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direct comparison of unlike th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D807-3FF5-4B17-9EFE-0B04A32A9A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ymbol and Person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~ an object that stands for itself and represents another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les to go before I slee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d miles to go before I slee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Personification~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ing that which is not human, human qu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                 </a:t>
            </a: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wind sang her mournful so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eat waves looked over  oth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ffodils nodded their yellow h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862C-5C78-43AA-A719-711F78B4E4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2:49:46Z</dcterms:created>
  <dc:creator>Teacher</dc:creator>
  <dc:description/>
  <dc:language>en-US</dc:language>
  <cp:lastModifiedBy>Teacher</cp:lastModifiedBy>
  <dcterms:modified xsi:type="dcterms:W3CDTF">2009-05-06T18:06:21Z</dcterms:modified>
  <cp:revision>106</cp:revision>
  <dc:subject/>
  <dc:title>Poetry</dc:title>
</cp:coreProperties>
</file>