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2E15-3F21-4986-AAB7-9E54298491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FC651-49BA-4D86-B5D3-88DE468BC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talks less and says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:  type of rhythmic, compressed language that uses figures of speech and imagery to appeal to the reader’s emotions and imagin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aker: voice of the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za: group of lines of verse, usually regular in pattern, forming a division of a poem or s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4DF-34FF-4631-9F6B-10F6472D8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59B8-56F1-4948-9B46-AAB1CA0637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ful / picky   skinny/slim   lie/ fib   blemish/zit   drink/ch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6AF3-E66B-407B-B7CB-BE0B36F2DF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0DA9-973F-43CD-8EBA-FE22EAF1AD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3ADC-697C-461F-93FB-F8E944D8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1459-4A48-43E8-B376-1B646A8D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565C-D89A-4246-8591-F7CDFE00A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DF0C-4673-4529-805C-0EEDBDC7B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20DF8-0490-490A-B9D9-0ED11A1F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6731-FB33-4672-8FE0-A97781B91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C3535-36F1-47F7-B449-9A1F6D9D1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B4321-8FB7-4F52-AB86-6F9F4C5B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4400F-4152-4A4C-B7A6-9CE97C62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AB4C-0C5E-41C7-9B52-AF5F9BAC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443C-605D-47C4-B5E8-DF40A34C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CFC1-3288-48C2-9046-EE313986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2DFF-19EA-4E2B-A154-24B81A35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5B5F0-F600-4F68-8AD1-99E22B0F3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872CB-E6A3-4716-9B8F-34F9AB3B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208BA-FDBE-417E-83DF-1353B1B84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8898-6641-4F32-9606-87255CD6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4821-31C7-4DE2-8344-CFD2E435E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E3E69-63F8-4362-AF64-F7B952E5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57EB-F4B4-4C9B-B433-61D47B50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D54CE-C573-447D-AD9E-EE13E023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568E3-593E-4CCB-B542-1A5B3D07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B1B6-1951-40B6-AF8F-B0DBCCB49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8D55D-402A-4961-9281-11C9128EC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27E65-6F38-4EA9-B8E8-00B097D39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C2C4-5854-41CD-A54A-C70D1DE6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15190-845A-4444-8A46-464CA8F7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1FA96-07F9-4D49-AADF-10DDEAA9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E0452-3504-4599-8EE8-9F7D30269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D4BE-9E97-4D15-85FF-4CA2D72A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DB1B3-ED34-4981-8BAD-B14647B6A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DCE0B-BB7A-4955-A5AF-0A5EF66AE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189E-6789-4F86-8E31-6D2A6CEF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57F7-BDAF-4E64-846B-4E569353D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24CFB-2A34-49C0-8471-B9131B72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FDD79-2BEA-4178-B53C-EFC04494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0686E-FFAE-4898-8F83-E8947E36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B28CC-6575-480B-A806-BC5673E7C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84865-1669-43B2-BD5D-47EDD84D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E9843-AA53-4901-A8BD-E41F2A30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07F82-2CD2-4F2E-A4A4-DB5E48A7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9EB64-8C32-4EC0-9DDC-C2E19BB18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10778-3546-40DE-9695-F07D6C30F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7BAC-2DB8-4A9C-AE18-A7F28553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89F2-07D3-42FB-A280-807F2E9A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A0E7-9CEF-4119-B82E-6548EBF9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5E0-2A78-4488-965D-B2E53991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2360-80C1-4043-B410-1DBB96B2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EBB3-10A3-418C-8EE9-9060AD6E3AC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E105-9B92-41E8-BD1A-693D9E3AB8A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087A7-7C17-4021-B598-8FB71AF5D6AE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82641-6DFA-4EF0-94A1-9F06023561E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171A-E41E-48F7-A33F-7BA311738E94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64291-6A66-407E-B4C7-7B7CC249F32C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C2CA-B3E3-481F-A62B-2B731ADABCDE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9B64-179A-4DE6-99A9-E0828D4FFF7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ile and Metaph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~ a comparison using words such as like, than, or 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feel like a limp dishra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aby was like an octopus, grabbing everything in s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Metapho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a direct compari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am a limp dishra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se girls are two peas 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00EB-9074-44D1-A61C-65591725A54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lied Metapho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s the things being compared instead of nam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ader must figure out the comparis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 Captain! My Captain! Our fearful trip is don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hip has weather’d every rack, the prize we sough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w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Walt Whitm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4487-9877-4803-AB5D-C395AC8C2AA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tended Metapho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omparison that continues throughout an entire wor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irework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You hate me and I hate you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d we are so polite, we two!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t whenever I see you, I burst apar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d scatter the sky with my blazing hear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t spits and sparkles in stars and ball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ds into roses – and flares and fall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carlet buttons, and pale green disk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ilver spirals and asterisk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hoot and tremble in a mis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Peppered with mauve and amethyst.            ~ Amy Lowell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072D-A23C-4746-B2CB-14BA31238CF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und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Alliteration: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etition of initial consonant sounds in words that are close toget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p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ed 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k of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l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pper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ow many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l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ppers di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p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g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ght shakes across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k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Assonance: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etition of vowel sounds in words that are close toget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a quiet s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 and a sw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 dr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 when the long trick’s 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so all the n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ht-t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,</a:t>
            </a:r>
            <a:r>
              <a:rPr b="0" lang="en-US" sz="1800" spc="-1" strike="noStrike">
                <a:solidFill>
                  <a:srgbClr val="5e0af6"/>
                </a:solidFill>
                <a:latin typeface="Constantia"/>
              </a:rPr>
              <a:t> 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5e0af6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own b</a:t>
            </a:r>
            <a:r>
              <a:rPr b="0" i="1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s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f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arling,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arling,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e and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br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D506-4E11-4ADD-B97D-061E48A9514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und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Onomatopoeia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of a word whose sound imitates or suggests its mea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ru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your drum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batt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your banjo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Sob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the long cool winding saxophon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B32B-A13F-4DE4-BEFC-3752C94CA3A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etition of accented vowel sounds and all sounds following them in words that are close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rt / Part / st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ter / fas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now / though / sn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3633-6E2D-4868-8AFF-9592C43527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rhy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Exact rhyme: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nds ending words are iden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wer / sour             June / mo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pproximate rhyme: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nds ending words are nearly the s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in / h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de /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so known as slant, half, or imperfect rhym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3244-0F46-4640-BA6E-F8760894BBF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Rhym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End Rhym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at the ends of 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old fast to dream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or if dreams </a:t>
            </a:r>
            <a:r>
              <a:rPr b="1" lang="en-US" sz="1700" spc="-1" strike="noStrike">
                <a:solidFill>
                  <a:srgbClr val="00b050"/>
                </a:solidFill>
                <a:latin typeface="Constantia"/>
              </a:rPr>
              <a:t>die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ife is a broken-winged bird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at cannot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fl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Internal Rhym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within a 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splendor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falls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rom castle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wall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Couplet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air of successive rhyming 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o call the field to rest, and let’s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awa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 part the glories of this happy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day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638DA-31C7-41D6-AF20-A883E2FEB5C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tern of rhymed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cate by giving each new end rhyme a new letter of the alphab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kip a space for stanza brea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3BBA-F5AD-4FB4-B359-CDA90FA8C1C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Once by the Pacific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Robert Fros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shattered water made a misty din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Great waves looked over others coming in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And thought of doing something to the shor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at water never did to land befor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clouds were low and hairy in the skies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Like locks blown forward in the gleam of eyes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You could not tell, and yet it looked as if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shore was lucky in being backed by cliff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cliff in being backed by continent;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It looked as if a night of dark inten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Was coming, and not only a night, an ag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Someone had better be prepared for rag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re would be more than ocean-water broke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Before God’s last Put out the Light was spoken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9126360" y="4149720"/>
            <a:ext cx="360" cy="93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8569440" y="4413240"/>
            <a:ext cx="136440" cy="8244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9"/>
          <p:cNvSpPr/>
          <p:nvPr/>
        </p:nvSpPr>
        <p:spPr>
          <a:xfrm>
            <a:off x="8031240" y="3657600"/>
            <a:ext cx="7920" cy="7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22A4-9C7B-40AF-A3BC-EA006A3ED10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143000" y="838080"/>
            <a:ext cx="6705720" cy="63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Poetry talks less and says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Poetry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ype of rhythmic, compressed language that uses figures of speech and imagery to appeal to the reader’s emotions and imag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Speaker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ice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Stanza: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oup of lines of verse, usually regular in pattern, forming a division of a poem or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5B60-CFFE-4182-A131-0C1D9FC7660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Content Placeholder 2" descr=""/>
          <p:cNvPicPr/>
          <p:nvPr/>
        </p:nvPicPr>
        <p:blipFill>
          <a:blip r:embed="rId1"/>
          <a:stretch/>
        </p:blipFill>
        <p:spPr>
          <a:xfrm>
            <a:off x="378000" y="1871640"/>
            <a:ext cx="8242200" cy="4432320"/>
          </a:xfrm>
          <a:prstGeom prst="rect">
            <a:avLst/>
          </a:prstGeom>
          <a:ln w="0">
            <a:noFill/>
          </a:ln>
        </p:spPr>
      </p:pic>
      <p:sp>
        <p:nvSpPr>
          <p:cNvPr id="264" name="Oval 3"/>
          <p:cNvSpPr/>
          <p:nvPr/>
        </p:nvSpPr>
        <p:spPr>
          <a:xfrm>
            <a:off x="9090000" y="4086360"/>
            <a:ext cx="88920" cy="889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solidFill>
              <a:srgbClr val="ffff00">
                <a:alpha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"/>
          <p:cNvSpPr/>
          <p:nvPr/>
        </p:nvSpPr>
        <p:spPr>
          <a:xfrm>
            <a:off x="8642520" y="4113360"/>
            <a:ext cx="360" cy="360"/>
          </a:xfrm>
          <a:prstGeom prst="pie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8842320" y="4486320"/>
            <a:ext cx="38160" cy="381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solidFill>
              <a:srgbClr val="ffff00">
                <a:alpha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8250120" y="4505400"/>
            <a:ext cx="7920" cy="93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01AB-0391-4309-98CD-8E4827F99E7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e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Rhythm: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at; arrangement of stressed and unstressed syll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Meter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tern of 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iamb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stressed / stressed syllab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pent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ve ti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ambic Pentameter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ve iambs in one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Blank Vers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rhymed iambic pent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3A06B-1B60-42F6-97F6-943E5BD08D5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ank Ver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I see birches bend to left and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ross the line of straighter  darker tree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like to think some boy’s been swinging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“Birches” by Robert Fr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must be by his death; and for my pa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know no personal cause to spurn at him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 for the general.  He would be crown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e Tragedy of Julius Cae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F2A92-4103-48C5-B503-6CCCEDE7C0D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ee Vers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fixed line length, stanza form, rhyme scheme or 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Red Wheelbarrow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 much depend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up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red whee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rrow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lazed with rai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eside the whi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hicken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illiam Carlos William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906F-3B3F-4E7D-B80E-D82873EBC5D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"/>
          <p:cNvSpPr/>
          <p:nvPr/>
        </p:nvSpPr>
        <p:spPr>
          <a:xfrm>
            <a:off x="7566120" y="3967200"/>
            <a:ext cx="299880" cy="68400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Narrative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Dramatic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Lyric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E91-2E9C-466A-9A51-6495F158FBC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rrative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ls a 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pic: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 poem with heroes and a stately, dignified langu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75400" indent="-207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Ili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Beowul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Ballad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rter narrative p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iginally meant to be s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6fc6"/>
                </a:solidFill>
                <a:latin typeface="Constantia"/>
              </a:rPr>
              <a:t>Folk / Popular Ballad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ssed down orally through generations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tragic mood, sensational plo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6fc6"/>
                </a:solidFill>
                <a:latin typeface="Constantia"/>
              </a:rPr>
              <a:t>Literary Ballad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mposed by a known poe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re elaborate in language and for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46BA-B698-455C-80D9-8801E277480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ramatic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 pl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e or more characters spea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tt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ramatic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motional conflic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igorous spee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tural language rhyth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The Tragedy of Julius Caes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Evangel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EF57-3A41-484E-BE1F-9A731F4D643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es emotions or thoughts of the spea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ually brief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rom Greek “lyrikos” meaning a poem sung to the music of a ly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ypical The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though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emotions: grief to jo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auty of nature            reminiscence of p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Eleg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em mourning someone who has di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onnets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 line poems with a set rhyme sche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yric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B5F7-8D5F-4BCA-BC4C-64F0CEACFF7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talian Son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cta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eight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bbaabb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 situation or a probl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st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six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or three 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dcdc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dec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n outcome or solu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DB14-1695-4E49-9098-76F262A2C20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Composed upon Westminister Bridge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arth has not anything to show more fai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ull would he be of soul who could pass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ight so touching in its majest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city now doth, like a garment, we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eauty of the morning; silent, ba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ips, towers, domes, theaters, and temples li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pen unto the fields, and to the sk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 bright and glittering in the smokeless ai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ver did sun more beautifully stee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his first splendor, valley, rock, or hill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’er saw I, never felt, a calm so dee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river glideth at his own sweet will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r God! The very houses seem asleep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all that mighty heart is lying still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~ William Wordswort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D5CF-17F8-4FAB-A879-CEF5AB84DE3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ction: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a writer’s choice of words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                        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Denota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literal meaning of a word, as listed in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diction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~ suggested meaning of a 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~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meanings and feelings that hav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become associated with a word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ABAAD-9221-4F57-9FED-229BAD33751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glish (Shakesperean) Son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ree Quatrai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four lines 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bab cdcd efe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often express related ideas or examp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uple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two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m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uplet sums the poet’s conclusion or messag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5B43-EFC0-4FA7-9DF4-CB04676ED181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at Time of Year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at time of year thou mayst in me behol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en yellow leaves, or none, or few, do ha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pon those boughs which shake against the cold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are ruined choirs where late the sweet birds s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me thou see’st the twilight of such da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 after sunset fadeth in the west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ch by and by black night doth take away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th’s second self, that seals up all in rest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me thou see’st the glowing of such fi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at on the ashes of his youth doth li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 the deathbed whereon it must expi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sumed with that which it was nourished b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thou perceivest, which makes thy love more stro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love that well which thou must leave ere lo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lliam Shakespe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6C4F-6067-4429-9004-2E2BC82584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Various Terms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Allusion:</a:t>
            </a: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eference to a past writing or event from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Refrai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epeated line of word in a po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Poetic Licens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edom to break conventional rules in order to use language playfully and creative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82F24-DDFD-4B3B-BC0F-55F98745442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 that relates to the sen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ight imager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flows of clouds across the horiz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ound imagery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d whistling thinly through the cr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aste imagery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h chocolate slowly melted on his tong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mell imager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cent of freshly brewed coffee tickled my nose awak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ouch imagery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ill’s forehead slammed against the steering wheel as her head snapped forwa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DF7C-47A0-4911-9F9E-F112581343F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 Po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llowing the prompts, write an eight line poem.  Select words with strong connot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in each line with a capital let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s should be words and phrases; not sent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itle will be added when you have completed the eight l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1EA1-0634-4D15-8211-96F46B9E275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 Po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atures of a disgusting animal without naming the anim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 you feel when you become very angry and lose your tem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gusting color: its name and why you hate 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mell of garbage burn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ights and smells after a horrible flo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atures of the type of music you dislik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aste and texture of repulsive fo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cenes from a ri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DAEE-94A5-4BC9-B85C-E175EB073E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anin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Literal mean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the meaning that is directly st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Figurative mean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the deeper, symbolic meaning which must be interpreted from a literary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2FD7-211F-4F9B-A3E8-6578C963FB33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gurative Languag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(Figures of Speech)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s one thing in terms of ano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ymbol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object that stands for itself and represents another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Personification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ing that which is not human, human qu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imil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mparison of unlike things using words such as like or 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Metaphor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direct comparison of unlike th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B89B-27C6-4FD0-BE93-D7CC58339B9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ymbol and Person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~ an object that stands for itself and represents another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les to go before I slee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d miles to go before I slee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Personification~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ing that which is not human, human qu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                 </a:t>
            </a: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wind sang her mournful so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eat waves looked over  oth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ffodils nodded their yellow he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ED7F-58EF-464C-ADCD-139FC0A3B29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2:49:46Z</dcterms:created>
  <dc:creator>Teacher</dc:creator>
  <dc:description/>
  <dc:language>en-US</dc:language>
  <cp:lastModifiedBy>Teacher</cp:lastModifiedBy>
  <dcterms:modified xsi:type="dcterms:W3CDTF">2009-05-06T18:06:21Z</dcterms:modified>
  <cp:revision>106</cp:revision>
  <dc:subject/>
  <dc:title>Poetry</dc:title>
</cp:coreProperties>
</file>