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51D7-0C62-4BDE-B2FB-1BB3E67A7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D7B7-F23B-431D-AD7F-FB6F77D23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talks less and says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:  type of rhythmic, compressed language that uses figures of speech and imagery to appeal to the reader’s emotions and imagin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aker: voice of the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za: group of lines of verse, usually regular in pattern, forming a division of a poem or 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DED-F907-4EFA-9C66-51D71065F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813-FEEE-4000-A278-CFB81E993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ful / picky   skinny/slim   lie/ fib   blemish/zit   drink/ch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9484-61ED-4973-8BB4-05294C048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1F6-D9CE-47D6-AE15-B211428A5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6D7-00DC-4DBE-88E4-F4C97F1D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73D-9855-4EEE-A426-B740913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4D0-8607-476C-824D-AF9B9EE6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E81-2E1D-4C5B-B7F7-0022CEC9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7B10-C297-4A0E-BE68-BD8A65F8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518-9B1D-4493-BC3C-36240B1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99B9-305C-49C8-9A13-87BDB6F1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4E3A-0B61-4692-ADD5-CCE8A6C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5700-62A9-41C2-9A8D-C849901C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297-712C-434C-B65F-C0BCC355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DEFA-2961-42EB-93E7-9A781B1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456-B76F-40C2-A7F3-FB792E3A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CAC1-1832-41EF-9310-F8301D7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F321-3C2B-46EF-9FA6-082EA08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0C96-9F4F-488F-BA68-EDC315B7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1B5F-B75E-4C57-9A24-B76BB043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607A-8CDC-4EA4-BB3A-4F2659AE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0051-D860-4287-AE7A-409957B6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20FB-A963-4D6D-A731-9AC7BE7A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DF14-1DE3-4D41-94B6-289D8DA6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7B5F-093D-4435-BB2B-B42FE1BF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832C3-00C6-46EC-909C-F1EEC376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ECA-A7DD-4E0A-B066-98666E8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FBC3-1685-4624-8363-8463C479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D6FF-A324-497B-BD09-6D11F5D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56F5-B057-4056-8D07-CC3ECC9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2A79-9BC0-49A4-BC79-4DB0F99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F3D0-77E7-4577-86F8-D6185B9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F5DF-6635-4015-AF41-FD668E6C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E64D-A19C-4B08-BCBB-B449FBEB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C5BB-9E85-46EC-B70F-3795CC3B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73DE-24E4-4967-A17B-DC6ACC14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2B76-1A24-448E-82EB-BB69EB35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0CC-7F69-46E3-8083-B05E50B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436FD-CCCE-4CAF-A597-84A6893E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39A1-B007-4F51-B2A5-6D76EE62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B43B-92D1-4DD9-B333-65EDFCD5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844C-62C6-4967-82A9-BCE82C4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026A-4F25-4FD8-99B6-7739629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B538-4032-4BE8-9854-415AFCE4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3A1F-FBDA-4606-B1F9-C1A92F5A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7E36-01DC-4ADF-BE76-D6C08B71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A6FE-FA11-4116-B070-B99ED946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99C-F3E9-4E80-941E-39553277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EF9-FAE9-4F22-9C90-D2DC347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B7E-1A20-421D-AD53-E7C3412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874-DA07-4962-B919-BF868C7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E05-41CC-4D2E-A22C-EDF624B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5D6E-79DA-4C19-87A4-6BD949B0C0B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F515-5505-446B-86DF-544810D0C2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74E-29F6-4CA8-AE35-3D7A15BE115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F2AD-CE51-48F2-90CF-A5D72E38386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FA7D-6352-4B39-8646-4CC13144647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FE22-7778-44C4-9BEB-52AB0CE780D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893-D052-47FE-AF66-1F9E4490827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4CEE-5175-4C00-A3B0-0D8D500FA9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ile and Metaph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a comparison using words such as like, than, or 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feel like a limp dishra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by was like an octopus, grabbing everything in s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Metaph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a direct compari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am a limp dishra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se girls are two peas 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3F6-A213-43E5-9709-70255B1552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li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the things being compared instead of nam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ader must figure out the compari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 Captain! My Captain! Our fearful trip is don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hip has weather’d every rack, the prize we sough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w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Walt Whitm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663A-EDE4-45C9-92F9-167547A537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tend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omparison that continues throughout an entire wor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irework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You hate me and I hate you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we are so polite, we two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t whenever I see you, I burst apar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scatter the sky with my blazing hear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t spits and sparkles in stars and ball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ds into roses – and flares and fall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carlet buttons, and pale green d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ilver spirals and aster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hoot and tremble in a mis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eppered with mauve and amethyst.            ~ Amy Lowel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A2C5-DFE8-4BE9-8A16-74EC6DE633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lliteration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initial consonant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ed 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k o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w man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 di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g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ght shakes across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k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ssonance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vowel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 quiet s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 and a sw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 d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 when the long trick’s 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so all the n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ht-t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own b</a:t>
            </a:r>
            <a:r>
              <a:rPr b="0" i="1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s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f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e and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b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FBD9-CD33-420C-BA7A-9FD18E6AF4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Onomatopoeia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of a word whose sound imitates or suggests its mea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r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drum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att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banjo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Sob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long cool winding saxopho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19F-826D-475F-AF65-BC766C6598A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etition of accented vowel sounds and all sounds following them in words that are close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rt / Part / st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ter / fas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 / though / sn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682F-F9F8-41E3-8F23-80C3882F95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Exact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iden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wer / sour             June / m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pproximate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nearly the s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/ h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de /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so known as slant, half, or imperfect rhy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B56B-08B0-4020-8A72-CA6F46A639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nd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at the ends of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old fast to dream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if dreams </a:t>
            </a:r>
            <a:r>
              <a:rPr b="1" lang="en-US" sz="1700" spc="-1" strike="noStrike">
                <a:solidFill>
                  <a:srgbClr val="00b050"/>
                </a:solidFill>
                <a:latin typeface="Constantia"/>
              </a:rPr>
              <a:t>die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ife is a broken-winged bir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t cannot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l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nternal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within a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splendor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alls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rom castle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wall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ouplet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air of successive rhyming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o call the field to rest, and let’s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awa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part the glories of this happy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day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73C-8D4D-4486-B574-5594429D9B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med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cate by giving each new end rhyme a new letter of the alphab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kip a space for stanza brea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09D5-6E0B-4767-9669-5562A004FF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Once by the Pacific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Robert Fros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attered water made a misty di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Great waves looked over others coming in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And thought of doing something to the shor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at water never did to land befor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ouds were low and hairy in the skies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Like locks blown forward in the gleam of ey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You could not tell, and yet it looked as if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ore was lucky in being backed by cliff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iff in being backed by continent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It looked as if a night of dark inte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Was coming, and not only a night, an 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Someone had better be prepared for r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re would be more than ocean-water broke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Before God’s last Put out the Light was spoke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9126360" y="4149720"/>
            <a:ext cx="36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8569440" y="4413240"/>
            <a:ext cx="136440" cy="824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9"/>
          <p:cNvSpPr/>
          <p:nvPr/>
        </p:nvSpPr>
        <p:spPr>
          <a:xfrm>
            <a:off x="8031240" y="3657600"/>
            <a:ext cx="7920" cy="7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A0FA-EC57-4253-AC33-8776EC64EC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143000" y="838080"/>
            <a:ext cx="6705720" cy="63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Poetry talks less and says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Poetry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ype of rhythmic, compressed language that uses figures of speech and imagery to appeal to the reader’s emotions and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peaker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ice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tanza: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up of lines of verse, usually regular in pattern, forming a division of a poem or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557-D6CA-4623-9349-49944EB0C7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2" descr=""/>
          <p:cNvPicPr/>
          <p:nvPr/>
        </p:nvPicPr>
        <p:blipFill>
          <a:blip r:embed="rId1"/>
          <a:stretch/>
        </p:blipFill>
        <p:spPr>
          <a:xfrm>
            <a:off x="378000" y="1871640"/>
            <a:ext cx="8242200" cy="4432320"/>
          </a:xfrm>
          <a:prstGeom prst="rect">
            <a:avLst/>
          </a:prstGeom>
          <a:ln w="0">
            <a:noFill/>
          </a:ln>
        </p:spPr>
      </p:pic>
      <p:sp>
        <p:nvSpPr>
          <p:cNvPr id="264" name="Oval 3"/>
          <p:cNvSpPr/>
          <p:nvPr/>
        </p:nvSpPr>
        <p:spPr>
          <a:xfrm>
            <a:off x="9090000" y="4086360"/>
            <a:ext cx="88920" cy="889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"/>
          <p:cNvSpPr/>
          <p:nvPr/>
        </p:nvSpPr>
        <p:spPr>
          <a:xfrm>
            <a:off x="8642520" y="4113360"/>
            <a:ext cx="360" cy="360"/>
          </a:xfrm>
          <a:prstGeom prst="pie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8842320" y="4486320"/>
            <a:ext cx="38160" cy="381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8250120" y="4505400"/>
            <a:ext cx="792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311B-C2BD-4789-89C6-9B40FDEAD8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e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Rhythm: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at; arrangement of stressed and unstressed syll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amb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tressed / stressed syll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nt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ve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ambic Penta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iambs in one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Blank Ver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rhymed iambic pent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2FD7-BC42-4777-AF84-C53BF5D8D6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ank Ver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I see birches bend to left and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ross the line of straighter  darker tree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like to think some boy’s been swinging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“Birches” by Robert Fr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must be by his death; and for my pa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know no personal cause to spurn at him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 for the general.  He would be crown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50D-13F6-45D7-B34F-17DD02DEE3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ee Vers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fixed line length, stanza form, rhyme scheme or 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Red Wheel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 much depend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p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red whee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lazed with rai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side the whi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hicken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illiam Carlos William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06A-0D89-42DE-B110-5430C80CFA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"/>
          <p:cNvSpPr/>
          <p:nvPr/>
        </p:nvSpPr>
        <p:spPr>
          <a:xfrm>
            <a:off x="7566120" y="3967200"/>
            <a:ext cx="299880" cy="68400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Narrative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Dramat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Lyr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C2A8-76DA-46E6-AC15-08EDB25194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rrative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s a 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pic: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poem with heroes and a stately, dignified 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Ili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eowul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Ballad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er narrative p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ginally meant to be s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Folk / Popular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ssed down orally through generations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tragic mood, sensational plo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Literary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mposed by a known poe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re elaborate in language and for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9BF-81C0-49FC-ADF3-0CBB44E9A9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amat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pl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e or more characters spea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tt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amatic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motional conflic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igorous spee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ural language rhyth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Evangel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08D-0F4D-46F1-8831-D79CC697CA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es emotions or thoughts of the spe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ually brie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om Greek “lyrikos” meaning a poem sung to the music of a ly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ypical The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though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emotions: grief to jo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auty of nature            reminiscence of p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leg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em mourning someone who has di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onnets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 line poems with a set rhyme sche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yr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7C1-A86D-4703-9D03-5E031659A2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talian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cta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eight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baabb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situation or a probl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st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six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or three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cdc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ec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n outcome or solu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734-19AC-416A-8987-09ECE367A0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omposed upon Westminister Bridge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rth has not anything to show more fai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ull would he be of soul who could pass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ight so touching in its majest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city now doth, like a garment, we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eauty of the morning; silent, ba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ips, towers, domes, theaters, and temples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pen unto the fields, and to the sk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 bright and glittering in the smokeless ai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ver did sun more beautifully stee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his first splendor, valley, rock, or hill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’er saw I, never felt, a calm so dee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river glideth at his own sweet will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God! The very houses seem asleep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ll that mighty heart is lying still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~ William Wordswort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F777-0CD4-4EB4-81A4-A9FB8728CEE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ction: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a writer’s choice of words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                 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Denota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literal meaning of a word, as listed in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diction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suggested meaning of a 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~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meanings and feelings that hav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become associated with a word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232-732E-41B0-8AF4-16750F494E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glish (Shakesperean)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ree Quatrai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four lines 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ab cdcd efe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ften express related ideas or examp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ple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two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uplet sums the poet’s conclusion or messag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BC9-85DE-4F42-B476-110BEE4434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at Time of Year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time of year thou mayst in me beho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en yellow leaves, or none, or few, do ha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pon those boughs which shake against the cold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are ruined choirs where late the sweet birds s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twilight of such d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after sunset fadeth in the w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ch by and by black night doth take away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th’s second self, that seals up all in r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glowing of such f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on the ashes of his youth doth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the deathbed whereon it must exp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sumed with that which it was nourished b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thou perceivest, which makes thy love more str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love that well which thou must leave ere l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lliam Shakespe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351-F1B8-4971-A9CE-B55414BEDA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Various Terms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Allusion:</a:t>
            </a: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ference to a past writing or event from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Refrai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peated line of word in a po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oetic Licen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edom to break conventional rules in order to use language playfully and creativ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0E91-E8B6-445C-9AF0-51246C304A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 that relates to the sen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ight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flows of clouds across the horiz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ound imagery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d whistling thinly through the cr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aste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h chocolate slowly melted on his tong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mell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cent of freshly brewed coffee tickled my nose awak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ouch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ill’s forehead slammed against the steering wheel as her head snapped forwa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700-3571-4039-B0F2-4C8713D1A4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llowing the prompts, write an eight line poem.  Select words with strong connot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in each line with a capital le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s should be words and phrases; not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itle will be added when you have completed the eight l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3E1F-9491-4AB5-8BEA-EDFD0CF572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a disgusting animal without naming the anim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 you feel when you become very angry and lose your tem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gusting color: its name and why you hate 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mell of garbage bur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ights and smells after a horrible fl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the type of music you dislik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aste and texture of repulsive f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cenes from a ri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E33-B8B5-4946-BE3F-3526D763AB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an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Literal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meaning that is directly st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Figurative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deeper, symbolic meaning which must be interpreted from a literary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8C1B-2655-4EE9-A222-24E4982B7B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gurative Languag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(Figures of Speech)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one thing in terms of ano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ymbol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rsonification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imi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mparison of unlike things using words such as like or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Metaphor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direct comparison of unlike th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BDE-3F5A-4646-B88B-C810A7FFFE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mbol and Person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~ 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les to go before I slee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miles to go before I slee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Personification~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                 </a:t>
            </a: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wind sang her mournful so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eat waves looked over  oth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ffodils nodded their yellow h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B548-177B-4ED0-802E-DE26FE3D1A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2:49:46Z</dcterms:created>
  <dc:creator>Teacher</dc:creator>
  <dc:description/>
  <dc:language>en-US</dc:language>
  <cp:lastModifiedBy>Teacher</cp:lastModifiedBy>
  <dcterms:modified xsi:type="dcterms:W3CDTF">2009-05-06T18:06:21Z</dcterms:modified>
  <cp:revision>106</cp:revision>
  <dc:subject/>
  <dc:title>Poetry</dc:title>
</cp:coreProperties>
</file>