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FE8F-2C8C-46F5-AAA2-4CC52D67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FB67-87B8-418B-8D61-CC82CA3C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A698-2FB5-443B-98E3-10C25D52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ECF2-798B-4E8F-8777-6A001F18C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D06A-0819-45DA-B8B7-283F5DA5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7ECF-1F29-4AC6-92EE-8312E8C1C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FF6A-78A3-4EEE-AB7C-B8B83CB1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0C3D-1899-463D-87FB-B5734324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ED03-1815-47F0-A568-B5245C1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B74A-55A5-49F5-B6AE-626BEBDA2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99C3-CC54-4346-9045-C08FBC0E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A8F0-D484-4F3E-A070-F782C287A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C736-1B7D-49CB-83D9-5F7ADC153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Plo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the sequence of ev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in a 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Tim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Chronological Order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- events told in the ord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they occ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	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~ Slowing pacing may create </a:t>
            </a: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suspense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Flashback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– present action is interrupted wi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a scene from the pa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Flash-forward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– present action is interrup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with a scene from the fu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7375e"/>
                </a:solidFill>
                <a:latin typeface="Arial Black"/>
              </a:rPr>
              <a:t>Foreshadowing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– clues that hint at what wil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                             </a:t>
            </a:r>
            <a:r>
              <a:rPr b="0" lang="en-US" sz="2200" spc="-1" strike="noStrike">
                <a:solidFill>
                  <a:srgbClr val="e46c0a"/>
                </a:solidFill>
                <a:latin typeface="Arial Black"/>
              </a:rPr>
              <a:t>happen in the fu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flict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ruggle that propels the pl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Internal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Self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External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Calibri"/>
              </a:rPr>
              <a:t>Man versus N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Five Stages of Plo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Introduction    (Expos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Rising Action   (Complica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Clima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Falling A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Resolution    (Denouemen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Character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Basic situ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Rising A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Series of com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develop the confli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The first complication is the </a:t>
            </a:r>
            <a:r>
              <a:rPr b="1" lang="en-US" sz="2800" spc="-1" strike="noStrike">
                <a:solidFill>
                  <a:srgbClr val="17375e"/>
                </a:solidFill>
                <a:latin typeface="Arial Black"/>
              </a:rPr>
              <a:t>inciting</a:t>
            </a: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 </a:t>
            </a:r>
            <a:r>
              <a:rPr b="1" lang="en-US" sz="2800" spc="-1" strike="noStrike">
                <a:solidFill>
                  <a:srgbClr val="17375e"/>
                </a:solidFill>
                <a:latin typeface="Arial Black"/>
              </a:rPr>
              <a:t>incident</a:t>
            </a:r>
            <a:r>
              <a:rPr b="1" lang="en-US" sz="2800" spc="-1" strike="noStrike">
                <a:solidFill>
                  <a:srgbClr val="e46c0a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Clima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most exciting or suspenseful mo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decides the outcome of the confl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Falling A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works out the details of the confli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Resolu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resolves proble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ties up loose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 Black"/>
              </a:rPr>
              <a:t>Plot Graph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rial Black"/>
              </a:rPr>
              <a:t> 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Clima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Black"/>
              </a:rPr>
              <a:t>          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Black"/>
              </a:rPr>
              <a:t>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Falling A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    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Rising Action</a:t>
            </a:r>
            <a:r>
              <a:rPr b="1" lang="en-US" sz="2000" spc="-1" strike="noStrike">
                <a:solidFill>
                  <a:srgbClr val="e46c0a"/>
                </a:solidFill>
                <a:latin typeface="Arial Black"/>
              </a:rPr>
              <a:t>                          </a:t>
            </a: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Resolu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46c0a"/>
                </a:solidFill>
                <a:latin typeface="Arial Black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4"/>
          <p:cNvSpPr/>
          <p:nvPr/>
        </p:nvSpPr>
        <p:spPr>
          <a:xfrm>
            <a:off x="914400" y="5562720"/>
            <a:ext cx="1143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5"/>
          <p:cNvSpPr/>
          <p:nvPr/>
        </p:nvSpPr>
        <p:spPr>
          <a:xfrm flipV="1">
            <a:off x="2056680" y="1905120"/>
            <a:ext cx="243828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7"/>
          <p:cNvSpPr/>
          <p:nvPr/>
        </p:nvSpPr>
        <p:spPr>
          <a:xfrm>
            <a:off x="4495680" y="1905120"/>
            <a:ext cx="1524240" cy="2057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traight Connector 19"/>
          <p:cNvSpPr/>
          <p:nvPr/>
        </p:nvSpPr>
        <p:spPr>
          <a:xfrm>
            <a:off x="6019920" y="3962520"/>
            <a:ext cx="16002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2T15:31:00Z</dcterms:created>
  <dc:creator>Teacher</dc:creator>
  <dc:description/>
  <dc:language>en-US</dc:language>
  <cp:lastModifiedBy>nancy.martin</cp:lastModifiedBy>
  <dcterms:modified xsi:type="dcterms:W3CDTF">2009-08-24T19:28:41Z</dcterms:modified>
  <cp:revision>16</cp:revision>
  <dc:subject/>
  <dc:title>Plot</dc:title>
</cp:coreProperties>
</file>