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8237-C101-4487-AB5B-9F4FE77F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C7D-1D93-41AE-B886-DCB5BDC5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743B-488D-46ED-9F1E-15C33CE7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8B5C-98D8-4D85-8456-48491721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ED61-05C7-4FCD-86B6-83EADEF5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6C3-A52D-40E6-98A5-D0F39691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4EC-8B84-4F6D-93C2-4EA6EDC5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C9C-C866-4D1A-B828-AD020D43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C8E-0B13-4DD8-B375-B4FE14FD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D54-FCCE-4525-B1A8-E031775D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EA1-8975-4A60-A34F-8B42763E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5FE-3CDC-491D-99C5-F2348AE1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2F52-423F-444A-9566-2E9A72B52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1f497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Plo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the sequence of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in a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Tim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 Black"/>
              </a:rPr>
              <a:t>Chronological Order 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- events told in the or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                                   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they occ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	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	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~ Slowing pacing may create </a:t>
            </a:r>
            <a:r>
              <a:rPr b="0" lang="en-US" sz="2200" spc="-1" strike="noStrike">
                <a:solidFill>
                  <a:srgbClr val="17375e"/>
                </a:solidFill>
                <a:latin typeface="Arial Black"/>
              </a:rPr>
              <a:t>suspense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 Black"/>
              </a:rPr>
              <a:t>Flashback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– present action is interrupted wi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                  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a scene from the pa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 Black"/>
              </a:rPr>
              <a:t>Flash-forward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– present action is interrup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                        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with a scene from the fu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 Black"/>
              </a:rPr>
              <a:t>Foreshadowing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– clues that hint at what wil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                           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happen in the fu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flict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ruggle that propels the p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Internal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Man versus Self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External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Man versus 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Man versus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Man versus 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Five Stages of Plo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Introduction    (Expos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Rising Action   (Complica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Clim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Falling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Resolution    (Denou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Character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Basic sit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Rising A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Series of com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rial Black"/>
              </a:rPr>
              <a:t>develop the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rial Black"/>
              </a:rPr>
              <a:t>The first complication is the </a:t>
            </a:r>
            <a:r>
              <a:rPr b="1" lang="en-US" sz="2800" spc="-1" strike="noStrike">
                <a:solidFill>
                  <a:srgbClr val="17375e"/>
                </a:solidFill>
                <a:latin typeface="Arial Black"/>
              </a:rPr>
              <a:t>inciting</a:t>
            </a:r>
            <a:r>
              <a:rPr b="1" lang="en-US" sz="2800" spc="-1" strike="noStrike">
                <a:solidFill>
                  <a:srgbClr val="e46c0a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17375e"/>
                </a:solidFill>
                <a:latin typeface="Arial Black"/>
              </a:rPr>
              <a:t>incident</a:t>
            </a:r>
            <a:r>
              <a:rPr b="1" lang="en-US" sz="2800" spc="-1" strike="noStrike">
                <a:solidFill>
                  <a:srgbClr val="e46c0a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Clima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most exciting or suspenseful mo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decides the outcome of the confl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Falling A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works out the details of the confl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Resolu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rial Black"/>
              </a:rPr>
              <a:t>resolves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rial Black"/>
              </a:rPr>
              <a:t>ties up loose 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Plot Grap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rial Black"/>
              </a:rPr>
              <a:t>                           </a:t>
            </a: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Clima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rial Black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rial Black"/>
              </a:rPr>
              <a:t>                          </a:t>
            </a: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Falling A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                              </a:t>
            </a: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Rising Action</a:t>
            </a:r>
            <a:r>
              <a:rPr b="1" lang="en-US" sz="2000" spc="-1" strike="noStrike">
                <a:solidFill>
                  <a:srgbClr val="e46c0a"/>
                </a:solidFill>
                <a:latin typeface="Arial Black"/>
              </a:rPr>
              <a:t>                          </a:t>
            </a: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Resolu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4"/>
          <p:cNvSpPr/>
          <p:nvPr/>
        </p:nvSpPr>
        <p:spPr>
          <a:xfrm>
            <a:off x="914400" y="5562720"/>
            <a:ext cx="1143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5"/>
          <p:cNvSpPr/>
          <p:nvPr/>
        </p:nvSpPr>
        <p:spPr>
          <a:xfrm flipV="1">
            <a:off x="2056680" y="1905120"/>
            <a:ext cx="243828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7"/>
          <p:cNvSpPr/>
          <p:nvPr/>
        </p:nvSpPr>
        <p:spPr>
          <a:xfrm>
            <a:off x="4495680" y="1905120"/>
            <a:ext cx="1524240" cy="2057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9"/>
          <p:cNvSpPr/>
          <p:nvPr/>
        </p:nvSpPr>
        <p:spPr>
          <a:xfrm>
            <a:off x="6019920" y="3962520"/>
            <a:ext cx="1600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15:31:00Z</dcterms:created>
  <dc:creator>Teacher</dc:creator>
  <dc:description/>
  <dc:language>en-US</dc:language>
  <cp:lastModifiedBy>nancy.martin</cp:lastModifiedBy>
  <dcterms:modified xsi:type="dcterms:W3CDTF">2009-08-24T19:28:41Z</dcterms:modified>
  <cp:revision>16</cp:revision>
  <dc:subject/>
  <dc:title>Plot</dc:title>
</cp:coreProperties>
</file>